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8F5-D4C4-4157-A5E3-0B3EF4EE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9A1-652B-46AB-88AC-C624EE3F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D68-F8E6-4CC9-8130-57DA2211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113-B74B-4762-8C24-9343810D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910-741F-4D02-830D-C8C7CCD5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C9C-D912-432A-B46B-84123C17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EDD-D954-4D54-B720-EFF481CC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A72-2504-4D21-B78F-7680A07D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A17-B8C3-4AF8-9B76-114BF269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649-5FC1-4206-9291-6C5426C2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D13-CC19-49B6-A318-24121DC2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D27-E7F7-47D9-91CB-7A157295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59F3-AEE7-456F-96E4-D940B7FE9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НАЩЕКИН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6430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НАЩЕКИНСКОЕ СЕЛЬСКОЕ ПОСЕЛЕНИЕ, 2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Нащекинского сель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23920" y="2265480"/>
          <a:ext cx="6896160" cy="3193920"/>
        </p:xfrm>
        <a:graphic>
          <a:graphicData uri="http://schemas.openxmlformats.org/drawingml/2006/table">
            <a:tbl>
              <a:tblPr/>
              <a:tblGrid>
                <a:gridCol w="609480"/>
                <a:gridCol w="3213360"/>
                <a:gridCol w="1206360"/>
                <a:gridCol w="889200"/>
                <a:gridCol w="977760"/>
              </a:tblGrid>
              <a:tr h="58104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12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ВСЕ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70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70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8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0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7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7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4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4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8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8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79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Нащекинского сельского  поселения в 2024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28840" y="1393920"/>
          <a:ext cx="6715080" cy="4064040"/>
        </p:xfrm>
        <a:graphic>
          <a:graphicData uri="http://schemas.openxmlformats.org/drawingml/2006/table">
            <a:tbl>
              <a:tblPr/>
              <a:tblGrid>
                <a:gridCol w="506160"/>
                <a:gridCol w="2590920"/>
                <a:gridCol w="1374840"/>
                <a:gridCol w="1217520"/>
                <a:gridCol w="1025640"/>
              </a:tblGrid>
              <a:tr h="374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290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90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27040">
                <a:tc>
                  <a:txBody>
                    <a:bodyPr lIns="3290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90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290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ВСЕ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90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35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35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92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4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4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76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01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1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93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9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9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8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8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9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щекинского сельского      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Диаграмма 7" descr=""/>
          <p:cNvPicPr/>
          <p:nvPr/>
        </p:nvPicPr>
        <p:blipFill>
          <a:blip r:embed="rId2"/>
          <a:stretch/>
        </p:blipFill>
        <p:spPr>
          <a:xfrm>
            <a:off x="291960" y="1066680"/>
            <a:ext cx="85600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11" descr=""/>
          <p:cNvPicPr/>
          <p:nvPr/>
        </p:nvPicPr>
        <p:blipFill>
          <a:blip r:embed="rId3"/>
          <a:stretch/>
        </p:blipFill>
        <p:spPr>
          <a:xfrm>
            <a:off x="493560" y="3852720"/>
            <a:ext cx="82296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571680" y="1720800"/>
            <a:ext cx="81435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Нащекинского сельского поселения за 2024 год дефицитный (расходы превысили доходы на 47,6 тыс.руб.). Денежные средства на покрытие дефицита взяты с остатков средств  бюджета на начало 01.01.2024г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4г. составило – 95,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42920" y="1071720"/>
            <a:ext cx="87152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Нащекинского сельского 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Матюшин Сергей Ив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396213, Воронежская область, Аннинский район с. Нащекино, ул. Дорожная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47346451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ashek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июл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 Нащекин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Нащекинского сельского поселения Аннинского муниципального района в 2024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Нащекинского сельского поселения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Нащекинского сельского поселения за 202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8" descr=""/>
          <p:cNvPicPr/>
          <p:nvPr/>
        </p:nvPicPr>
        <p:blipFill>
          <a:blip r:embed="rId2"/>
          <a:stretch/>
        </p:blipFill>
        <p:spPr>
          <a:xfrm>
            <a:off x="1689120" y="3067200"/>
            <a:ext cx="5765760" cy="358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1428840" y="1028880"/>
          <a:ext cx="6429240" cy="1706400"/>
        </p:xfrm>
        <a:graphic>
          <a:graphicData uri="http://schemas.openxmlformats.org/drawingml/2006/table">
            <a:tbl>
              <a:tblPr/>
              <a:tblGrid>
                <a:gridCol w="768240"/>
                <a:gridCol w="1440000"/>
                <a:gridCol w="1455480"/>
                <a:gridCol w="1473480"/>
                <a:gridCol w="1292040"/>
              </a:tblGrid>
              <a:tr h="304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6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 371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 402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835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866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4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535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535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6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 354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 354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4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7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500040" y="3643200"/>
          <a:ext cx="8358120" cy="3000600"/>
        </p:xfrm>
        <a:graphic>
          <a:graphicData uri="http://schemas.openxmlformats.org/drawingml/2006/table">
            <a:tbl>
              <a:tblPr/>
              <a:tblGrid>
                <a:gridCol w="3672000"/>
                <a:gridCol w="1562040"/>
                <a:gridCol w="1562040"/>
                <a:gridCol w="1562040"/>
              </a:tblGrid>
              <a:tr h="385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4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4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8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1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4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49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#ДЕЛ/0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сид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#ДЕЛ/0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1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19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19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#ДЕЛ/0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637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64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142920" y="14292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Нащекинского сельского поселения в 202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20920"/>
            <a:ext cx="4979880" cy="491328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1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2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3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4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4</cp:lastModifiedBy>
  <dcterms:modified xsi:type="dcterms:W3CDTF">2025-03-06T10:19:16Z</dcterms:modified>
  <cp:revision>103</cp:revision>
  <dc:subject/>
  <dc:title>Слайд 1</dc:title>
</cp:coreProperties>
</file>